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tif" ContentType="image/tiff"/>
  <Override PartName="/ppt/media/image6.png" ContentType="image/png"/>
  <Override PartName="/ppt/media/image3.tif" ContentType="image/tiff"/>
  <Override PartName="/ppt/media/image7.png" ContentType="image/png"/>
  <Override PartName="/ppt/media/image4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CD4D07-6F42-4672-B1C8-0F3DAF075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Num" idx="15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A392D7-8788-4C65-B774-9B5BF5A62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Num" idx="16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F8B1ED-D993-46CA-A886-79E61EB17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52560" cy="341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Num" idx="1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659580-D7D3-443D-A095-8C8226D43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Num" idx="13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23D27F-1214-4703-A3A9-E5A0220AF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come up with plots for TG network traffic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Num" idx="14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FDD4ED-5F98-49EE-8F89-C3E36A7F4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come up with plots for TG network traffic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1E2-D59D-41C4-A0C5-A64F6C1D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A92-0E9F-4CAD-AE14-339C5123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415-C720-4119-BF4E-88888888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4BF-44C5-49A9-9F62-9A4690A8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C343-784B-4BCC-B7E6-088EA3B5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20FC-510A-4799-9ED8-26476830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952D-2C1F-44D8-B3BC-E3BCFF22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6C36-9B13-4418-996D-11C72B5B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6A62-2508-40CE-BD51-2AED2B74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0BA9-6692-43DC-A895-5AA5FBFD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4806-79D2-476F-9A13-874D49F4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A9D-6DF8-410F-9728-6D1FE567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1492-6067-4091-8EF1-E16913DA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5127-0E76-40F7-AD99-E3615749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689D-D9BB-41F0-8DAA-627AB1F1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FBCA-685D-40D9-910C-31771C73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1D35-8434-4C21-B2B7-313C39BE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1FC5-717A-4D4E-BAAD-920649F0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994-B499-4CD0-B1B1-2196D954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79F-7BD5-4D79-86BA-8EA3635A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9972-2706-4B32-AFC5-892D4D5D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3E6-3464-4919-A361-6648A953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3FE-B96A-4157-BE3B-A95741A5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103-EBBC-45EE-86CB-ADF1185E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" name="Freeform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" name="Right Triangle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Lucida Sans Unicode"/>
              <a:ea typeface="ＭＳ Ｐゴシック"/>
            </a:endParaRPr>
          </a:p>
        </p:txBody>
      </p:sp>
      <p:cxnSp>
        <p:nvCxnSpPr>
          <p:cNvPr id="3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Right Triangle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Lucida Sans Unicode"/>
              <a:ea typeface="ＭＳ Ｐゴシック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Freeform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Lucida Sans Unicode"/>
                <a:ea typeface="ＭＳ Ｐゴシック"/>
              </a:endParaRPr>
            </a:p>
          </p:txBody>
        </p:sp>
        <p:cxnSp>
          <p:nvCxnSpPr>
            <p:cNvPr id="10" name="Straight Connector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e7f0f3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e7f0f3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687364-4466-4203-B51B-F30EC3CC146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53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Lucida Sans Unicode"/>
              <a:ea typeface="ＭＳ Ｐゴシック"/>
            </a:endParaRPr>
          </a:p>
        </p:txBody>
      </p:sp>
      <p:cxnSp>
        <p:nvCxnSpPr>
          <p:cNvPr id="54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6E09D7-D991-4E4D-934D-A1EB8624C25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t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t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localhost/Users/dennis/Desktop/Work/TDDRetreat/weddell1deg.mov" TargetMode="External"/><Relationship Id="rId2" Type="http://schemas.microsoft.com/office/2007/relationships/media" Target="file://localhost/Users/dennis/Desktop/Work/TDDRetreat/weddell1deg.mo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localhost/Users/dennis/Desktop/Work/NSF/cice.h264.5.23.11.mov" TargetMode="External"/><Relationship Id="rId2" Type="http://schemas.microsoft.com/office/2007/relationships/media" Target="file://localhost/Users/dennis/Desktop/Work/NSF/cice.h264.5.23.11.mo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2680" y="380880"/>
            <a:ext cx="85323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SDCI Net: An integrated study of datacenter network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John Denn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ennis@ucar.ed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10"/>
          </p:nvPr>
        </p:nvSpPr>
        <p:spPr>
          <a:xfrm>
            <a:off x="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DC81D32-B0F3-4652-AA87-6C159DAB5ADE}" type="datetime1"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07/29/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11"/>
          </p:nvPr>
        </p:nvSpPr>
        <p:spPr>
          <a:xfrm>
            <a:off x="815328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A0CA1E-06AF-4703-AB44-92785589827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07640"/>
            <a:ext cx="868644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ssues/challenges with runs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04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ery large variability with I/O performan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-10x slowdown comm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00x slowdown was observ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terference with other job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B547-59C4-4118-B477-3B32D0B2C6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BE8651E-C24A-463D-871F-A1786A8EF55A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ontent Placeholder 6" descr="etime.png"/>
          <p:cNvPicPr/>
          <p:nvPr/>
        </p:nvPicPr>
        <p:blipFill>
          <a:blip r:embed="rId1"/>
          <a:srcRect l="-18186" t="0" r="-18186" b="0"/>
          <a:stretch/>
        </p:blipFill>
        <p:spPr>
          <a:xfrm>
            <a:off x="457200" y="1143000"/>
            <a:ext cx="8229240" cy="4525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Execution time for non-I/O CESM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653760" y="5638680"/>
            <a:ext cx="8444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contention/congestion in message passing net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7810-5393-4B18-B460-80058B5CABD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1923E03-DDC8-4117-AA9B-95C96E92AF1B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ontent Placeholder 6" descr="band.png"/>
          <p:cNvPicPr/>
          <p:nvPr/>
        </p:nvPicPr>
        <p:blipFill>
          <a:blip r:embed="rId1"/>
          <a:srcRect l="-18186" t="0" r="-18186" b="0"/>
          <a:stretch/>
        </p:blipFill>
        <p:spPr>
          <a:xfrm>
            <a:off x="457200" y="1481400"/>
            <a:ext cx="8229240" cy="45255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Write bandwidth for CESM I/O da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0"/>
          <p:cNvGrpSpPr/>
          <p:nvPr/>
        </p:nvGrpSpPr>
        <p:grpSpPr>
          <a:xfrm>
            <a:off x="2666880" y="5486400"/>
            <a:ext cx="5745600" cy="1064880"/>
            <a:chOff x="2666880" y="5486400"/>
            <a:chExt cx="5745600" cy="1064880"/>
          </a:xfrm>
        </p:grpSpPr>
        <p:cxnSp>
          <p:nvCxnSpPr>
            <p:cNvPr id="138" name="Straight Arrow Connector 8"/>
            <p:cNvCxnSpPr/>
            <p:nvPr/>
          </p:nvCxnSpPr>
          <p:spPr>
            <a:xfrm flipH="1" flipV="1">
              <a:off x="2666880" y="5486400"/>
              <a:ext cx="762480" cy="762120"/>
            </a:xfrm>
            <a:prstGeom prst="straightConnector1">
              <a:avLst/>
            </a:prstGeom>
            <a:ln>
              <a:solidFill>
                <a:srgbClr val="2da2bf"/>
              </a:solidFill>
              <a:round/>
              <a:tailEnd len="med" type="arrow" w="med"/>
            </a:ln>
          </p:spPr>
        </p:cxnSp>
        <p:sp>
          <p:nvSpPr>
            <p:cNvPr id="139" name="TextBox 9"/>
            <p:cNvSpPr/>
            <p:nvPr/>
          </p:nvSpPr>
          <p:spPr>
            <a:xfrm>
              <a:off x="3455280" y="6095880"/>
              <a:ext cx="4957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at happened on April 26, 2009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CE0C-ECAD-4419-8D74-F06FB01618A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EC7B56A-986B-4214-A972-41DCDF412F0C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ontent Placeholder 6" descr="fig6.png"/>
          <p:cNvPicPr/>
          <p:nvPr/>
        </p:nvPicPr>
        <p:blipFill>
          <a:blip r:embed="rId1"/>
          <a:srcRect l="-24578" t="0" r="-24578" b="0"/>
          <a:stretch/>
        </p:blipFill>
        <p:spPr>
          <a:xfrm>
            <a:off x="457200" y="1481400"/>
            <a:ext cx="8229240" cy="45255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arallel I/O variability on Krake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E114-9EC4-47C1-8191-816FDBC0EC7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DFAB665-28D7-4E68-9422-06C92E0B40E7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nte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etaApps: TRAC-2, 28M CPU hours, ~120 TB, NICS, [2011-2012]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AC, 590M CPU hours, ~6,000 TB, NCSA, [2012-2013]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der Revie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ciDAC, 7M CPU hours, ~51 TB, NERSC [2012]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anne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eakthrough Science, 45M CPU hours, 200 TB, NWSC [2012]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otential climate experimen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63D9-7CFC-4D8B-8445-7B60307519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3DED0FD-2AC5-4F4D-91AF-496B6B12E3E7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339120" indent="-23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urces of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IC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ERS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WSC (NCAR-Wyoming Supercomputer Center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CS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120" indent="-23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ks of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CA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WS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CS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120" indent="-237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ers of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CA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lorado State Univers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iversity of California Berkle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orge Mason Univers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iversity of Miam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iversity of Washingt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exas A&amp;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niversity of Hawai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6720" indent="-21204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oods Hole Oceanographic Institu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Potential climate experiments (con’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D24D-716C-4680-A5E4-6B48B8A545A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8610BD2-88B4-48E3-B65E-A49DAD63BAE3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figure gridFTP logging for data collection [Fall,Winter 2011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icipate in 100Gb ANI testbed work [Dec 2011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itial profiling of MPI applications [Jan 2012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rough analysis of MPI application profiling [March – July 2012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ection of gridFTP usage data [Jan – Sept 2012]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Timeline for 1st-yea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9065-E748-4850-94F3-5F8010C25F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E90B124-57D9-4833-B924-6C6EB8FB0ECC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ennis@ucar.ed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889-429E-4B1F-9E5D-38E88D250A7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2EAD9-6427-4B4D-BCEE-0351AC56513A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481400"/>
            <a:ext cx="42667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63600" indent="-254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LNL Grand Challenge projec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8120" indent="-22716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0.25° ATM, LND + 0.1° OCN, ICE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8120" indent="-22716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Participants: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Bader [PI] , McClean, Ivanova, Boyle (LLNL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Bryan, Dennis, Vertenstein, Craig, Norton (NCAR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Jones (LANL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Worley (ORNL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4640" indent="-22716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Jacob (ANL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8120" indent="-22716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20 year run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High-Resolution </a:t>
            </a:r>
            <a:br>
              <a:rPr sz="4100"/>
            </a:b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CSM/CES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26672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75480" indent="-262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SF PetaApps project: Interactive Ensemb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8280" indent="-234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0.5° ATM, LND + 0.1° OCN, ICE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8280" indent="-234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Participants: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Kinter [PI], Stan (COLA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Kirtman (U of Miami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Collins, Yelick (Berkley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Bryan, Dennis, Loft, Vertenstein (NCAR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Bitz (U of Washington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8280" indent="-234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Teragrid Allocations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35M SU (2009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82360" indent="-23436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28M SU (2011)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8280" indent="-234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160" spc="-1" strike="noStrike">
                <a:solidFill>
                  <a:srgbClr val="000000"/>
                </a:solidFill>
                <a:latin typeface="Lucida Sans Unicode"/>
              </a:rPr>
              <a:t>155 year control run + several 50 year branches</a:t>
            </a:r>
            <a:endParaRPr b="0" lang="en-US" sz="216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55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D85E-CCA2-480B-8B55-9D32D813A8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280C8BA-2653-4747-8EC5-C8CCD310F67C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PCC &amp; AR5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882440"/>
            <a:ext cx="7924320" cy="43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347760" indent="-243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rgovernmental Panel on Climate Change (IPCC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817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e IPCC assesses the scientific, technical and socio-economical information relevant for the understanding of the risk of human-induced climate chang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47760" indent="-243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ifth Assessment Report (AR5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7760" indent="-243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SM pla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1120" indent="-21708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trol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 run x 1300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1120" indent="-21708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storical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40 runs x 55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1120" indent="-21708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uture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80 runs x 95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591120" indent="0">
              <a:lnSpc>
                <a:spcPct val="100000"/>
              </a:lnSpc>
              <a:spcBef>
                <a:spcPts val="323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591120" indent="0">
              <a:lnSpc>
                <a:spcPct val="100000"/>
              </a:lnSpc>
              <a:spcBef>
                <a:spcPts val="323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0,600 years of simulation/ 564 TB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5AE0-8F33-4BB7-AB11-53BE716C06A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C61D949-6A8F-4892-871A-EEFEFC027E8A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ent Placeholder 7" descr="CESM-overview.tiff"/>
          <p:cNvPicPr/>
          <p:nvPr/>
        </p:nvPicPr>
        <p:blipFill>
          <a:blip r:embed="rId1"/>
          <a:stretch/>
        </p:blipFill>
        <p:spPr>
          <a:xfrm>
            <a:off x="-609480" y="304920"/>
            <a:ext cx="9753120" cy="6095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B008-B1A4-493B-8E83-5C496E116E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4B3AFCD-B790-441E-A1B1-18D830DB4B18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mate Modeling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upled models Atmosphere-Ocean-Sea Ice-L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hallenges of climat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ed many years --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mits resolution --&g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mits parallelis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ommunity Earth System Model (CESM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21720" indent="0">
              <a:lnSpc>
                <a:spcPct val="90000"/>
              </a:lnSpc>
              <a:spcBef>
                <a:spcPts val="323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rmally: Community Climate System Model (CCSM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C048-065B-4D29-88B8-C728CDA866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6F10867-0A0A-40A0-A5BD-C7058913FEA2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NCAR: 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D. Bailey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F. Brya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T. Craig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B. Eato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J. Edwards [IBM]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N. Hear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K. Lindsay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N. Norto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M. Vertenstei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COLA: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J. Kinter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C. Stan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U. Miami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640" spc="-1" strike="noStrike">
                <a:solidFill>
                  <a:srgbClr val="000000"/>
                </a:solidFill>
                <a:latin typeface="Arial"/>
                <a:ea typeface="Chalkboard"/>
              </a:rPr>
              <a:t>B. Kirtman</a:t>
            </a:r>
            <a:endParaRPr b="0" lang="en-US" sz="164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U.C. Berkeley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W. Collins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K. Yelick (NERSC)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Arial"/>
                <a:ea typeface="Chalkboard"/>
              </a:rPr>
              <a:t>U. Washington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3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Arial"/>
                <a:ea typeface="Chalkboard"/>
              </a:rPr>
              <a:t>C. Bitz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1295280"/>
            <a:ext cx="403812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Grant Support: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DOE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DE-FC03-97ER62402 [SciDAC]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DE-PS02-07ER07-06 [SciDAC]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NSF 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ooperative Grant NSF01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OCI-0749206 [PetaApps]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NS-0421498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NS-0420873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NS-0420985 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194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omputer Allocations:</a:t>
            </a:r>
            <a:endParaRPr b="0" lang="en-US" sz="194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TeraGrid TRAC @ NICS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DOE INCITE @ NERSC 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LLNL Grand Challenge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Thanks for Assistanc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Arial"/>
              <a:buChar char="•"/>
            </a:pPr>
            <a:r>
              <a:rPr b="0" lang="en-US" sz="1510" spc="-1" strike="noStrike">
                <a:solidFill>
                  <a:srgbClr val="000000"/>
                </a:solidFill>
                <a:latin typeface="Lucida Sans Unicode"/>
                <a:ea typeface="Chalkboard"/>
              </a:rPr>
              <a:t>Cray, NICS, and NERSC</a:t>
            </a:r>
            <a:endParaRPr b="0" lang="en-US" sz="151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590920" y="1523880"/>
            <a:ext cx="2819160" cy="4343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N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M. Fah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P. Kov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AN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R. Jac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R. L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LAN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E. Hu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P. J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M. Maltr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LL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D. B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D. Ivan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J. McClean (Scrip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A. Mir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halkboard"/>
              </a:rPr>
              <a:t>ORN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halkboard"/>
              </a:rPr>
              <a:t>P. Wor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1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2578320" y="5943600"/>
            <a:ext cx="26028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halkboard"/>
              </a:rPr>
              <a:t>and many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C350-09E2-4035-B874-17CE748388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0688E5C-1685-4805-A49B-CA1F15A63DEC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Content Placeholder 6" descr="CESM-usage.tiff"/>
          <p:cNvPicPr/>
          <p:nvPr/>
        </p:nvPicPr>
        <p:blipFill>
          <a:blip r:embed="rId1"/>
          <a:stretch/>
        </p:blipFill>
        <p:spPr>
          <a:xfrm>
            <a:off x="0" y="304920"/>
            <a:ext cx="9143640" cy="6095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6D9A-F67F-490C-AC6C-4A2D46862DD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C2F152C-A5F7-49A8-A199-F3CDABE87708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How to efficient utilize very large computer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ctr">
              <a:buNone/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5B3-6F67-4041-9913-EE1AE5E4E1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9B5E2-6B2A-4C8D-9198-5672991838AF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NSF PetaApps project (OCI-07920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43800" indent="-240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etaApps project: Interactive Ensemb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inter, Stan (COLA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irtman (U of Miam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llins, Yelick (Berkle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yan, Dennis, Loft, Vertenstein (NCAR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itz (U of Washingto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ltra-High resolution clima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xplore impact of weather noise on Climat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xplore technical/Computer Science issues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~99,000 core Cray XT5 system at NICS [Kraken]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rge TG allocation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5M CPU hours [2009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4640" indent="-21456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8M CPU hours [2011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B657-DCFE-4A21-99FF-54E5CBD1345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FE24AB3-1950-47BA-888E-D5F6244D47FF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Weddell Sea:</a:t>
            </a:r>
            <a:br>
              <a:rPr sz="4100"/>
            </a:b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ce thickness (1°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935000" y="1882800"/>
            <a:ext cx="5270040" cy="39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676C-2E4E-4530-AB26-F69FE8E3F80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B54307D-9EA2-4EE6-867B-F528699BDD99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delay="0" evt="onClick">
                    <p:tgtEl>
                      <p:spTgt spid="115"/>
                    </p:tgtEl>
                  </p:cond>
                </p:stCondLst>
                <p:childTnLst>
                  <p:par>
                    <p:cTn id="43" fill="hold">
                      <p:stCondLst>
                        <p:cond delay="0"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buNone/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1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4026-8676-4619-83E7-D3B38DF3B18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82A8051-E5DA-4685-83E2-B4DEE74D055E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delay="0" evt="onClick">
                    <p:tgtEl>
                      <p:spTgt spid="117"/>
                    </p:tgtEl>
                  </p:cond>
                </p:stCondLst>
                <p:childTnLst>
                  <p:par>
                    <p:cTn id="49" fill="hold">
                      <p:stCondLst>
                        <p:cond delay="0"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04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onent configur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1° Ocean model [3600 x 2400 x 42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1°  Sea-ice model [3600 x 2400 x 20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5° Atmosphere  [576 x 384 x 26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5° Land  [576 x 384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~18M CPU hou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5844 cores for 4-5 mont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~100 TB of data genera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0.5 to 1 TB per wall clock day genera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49120" y="107640"/>
            <a:ext cx="83610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Large scale PetaApps ru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7"/>
          <p:cNvGrpSpPr/>
          <p:nvPr/>
        </p:nvGrpSpPr>
        <p:grpSpPr>
          <a:xfrm>
            <a:off x="6007320" y="2971800"/>
            <a:ext cx="3044520" cy="1522080"/>
            <a:chOff x="6007320" y="2971800"/>
            <a:chExt cx="3044520" cy="1522080"/>
          </a:xfrm>
        </p:grpSpPr>
        <p:sp>
          <p:nvSpPr>
            <p:cNvPr id="121" name="Right Bracket 16"/>
            <p:cNvSpPr/>
            <p:nvPr/>
          </p:nvSpPr>
          <p:spPr>
            <a:xfrm>
              <a:off x="6934320" y="2971800"/>
              <a:ext cx="75960" cy="685440"/>
            </a:xfrm>
            <a:prstGeom prst="rightBracket">
              <a:avLst>
                <a:gd name="adj" fmla="val 8333"/>
              </a:avLst>
            </a:prstGeom>
            <a:noFill/>
            <a:ln>
              <a:solidFill>
                <a:srgbClr val="da1f28"/>
              </a:solidFill>
              <a:round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endParaRPr>
            </a:p>
          </p:txBody>
        </p:sp>
        <p:sp>
          <p:nvSpPr>
            <p:cNvPr id="122" name="TextBox 7"/>
            <p:cNvSpPr/>
            <p:nvPr/>
          </p:nvSpPr>
          <p:spPr>
            <a:xfrm>
              <a:off x="6007320" y="4038480"/>
              <a:ext cx="3044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accent2"/>
                  </a:solidFill>
                  <a:latin typeface="Arial"/>
                  <a:ea typeface="ＭＳ Ｐゴシック"/>
                </a:rPr>
                <a:t>4x current 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Straight Arrow Connector 11"/>
            <p:cNvCxnSpPr/>
            <p:nvPr/>
          </p:nvCxnSpPr>
          <p:spPr>
            <a:xfrm flipH="1" flipV="1">
              <a:off x="7162560" y="3352680"/>
              <a:ext cx="686160" cy="686160"/>
            </a:xfrm>
            <a:prstGeom prst="straightConnector1">
              <a:avLst/>
            </a:prstGeom>
            <a:ln w="38100">
              <a:solidFill>
                <a:srgbClr val="da1f28"/>
              </a:solidFill>
              <a:round/>
              <a:tailEnd len="med" type="arrow" w="med"/>
            </a:ln>
          </p:spPr>
        </p:cxnSp>
      </p:grpSp>
      <p:grpSp>
        <p:nvGrpSpPr>
          <p:cNvPr id="124" name="Group 24"/>
          <p:cNvGrpSpPr/>
          <p:nvPr/>
        </p:nvGrpSpPr>
        <p:grpSpPr>
          <a:xfrm>
            <a:off x="5503680" y="1371600"/>
            <a:ext cx="3382920" cy="1599840"/>
            <a:chOff x="5503680" y="1371600"/>
            <a:chExt cx="3382920" cy="1599840"/>
          </a:xfrm>
        </p:grpSpPr>
        <p:sp>
          <p:nvSpPr>
            <p:cNvPr id="125" name="TextBox 6"/>
            <p:cNvSpPr/>
            <p:nvPr/>
          </p:nvSpPr>
          <p:spPr>
            <a:xfrm>
              <a:off x="5503680" y="1371600"/>
              <a:ext cx="3382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accent2"/>
                  </a:solidFill>
                  <a:latin typeface="Arial"/>
                  <a:ea typeface="ＭＳ Ｐゴシック"/>
                </a:rPr>
                <a:t>100x current 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Straight Arrow Connector 13"/>
            <p:cNvCxnSpPr/>
            <p:nvPr/>
          </p:nvCxnSpPr>
          <p:spPr>
            <a:xfrm flipH="1">
              <a:off x="7924680" y="1904760"/>
              <a:ext cx="457560" cy="686160"/>
            </a:xfrm>
            <a:prstGeom prst="straightConnector1">
              <a:avLst/>
            </a:prstGeom>
            <a:ln w="38100">
              <a:solidFill>
                <a:srgbClr val="da1f28"/>
              </a:solidFill>
              <a:round/>
              <a:tailEnd len="med" type="arrow" w="med"/>
            </a:ln>
          </p:spPr>
        </p:cxnSp>
        <p:sp>
          <p:nvSpPr>
            <p:cNvPr id="127" name="Right Bracket 22"/>
            <p:cNvSpPr/>
            <p:nvPr/>
          </p:nvSpPr>
          <p:spPr>
            <a:xfrm>
              <a:off x="7772400" y="2057400"/>
              <a:ext cx="72720" cy="914040"/>
            </a:xfrm>
            <a:prstGeom prst="rightBracket">
              <a:avLst>
                <a:gd name="adj" fmla="val 8333"/>
              </a:avLst>
            </a:prstGeom>
            <a:noFill/>
            <a:ln w="38100">
              <a:solidFill>
                <a:srgbClr val="da1f28"/>
              </a:solidFill>
              <a:round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A077-CA71-48A1-8501-86C5501A05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EFE7257-EFBB-4D21-9F44-EA23D170F74E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836100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Large scale PetaApps run (con’t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04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ork flow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un on Kraken (NIC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ansfer output from NICS to NCAR (100 – 180 MB/sec sustaine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rchive on HP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9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ata analysis using 55 TB project space at NC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ED33-C8E0-4B8E-A127-B5B4B6DBE2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83E848E-D0CB-497F-82FD-6811C9200435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.thmx</Template>
  <TotalTime>5091</TotalTime>
  <Application>LibreOffice/7.4.7.2$Linux_X86_64 LibreOffice_project/40$Build-2</Application>
  <AppVersion>15.0000</AppVersion>
  <Words>1043</Words>
  <Paragraphs>231</Paragraphs>
  <Company>John Denni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2:42:27Z</dcterms:created>
  <dc:creator>John Dennis</dc:creator>
  <dc:description/>
  <dc:language>en-US</dc:language>
  <cp:lastModifiedBy>John Dennis</cp:lastModifiedBy>
  <dcterms:modified xsi:type="dcterms:W3CDTF">2011-09-30T15:54:19Z</dcterms:modified>
  <cp:revision>103</cp:revision>
  <dc:subject/>
  <dc:title>Scaling CCSM to a Petascale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Notes">
    <vt:r8>5</vt:r8>
  </property>
  <property fmtid="{D5CDD505-2E9C-101B-9397-08002B2CF9AE}" pid="4" name="PresentationFormat">
    <vt:lpwstr>On-screen Show (4:3)</vt:lpwstr>
  </property>
  <property fmtid="{D5CDD505-2E9C-101B-9397-08002B2CF9AE}" pid="5" name="Slides">
    <vt:r8>21</vt:r8>
  </property>
</Properties>
</file>